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8.wmf" ContentType="image/x-wmf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5CE752-4134-44D1-94B0-546FED999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age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Selection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ON REQUIREMENTS…Compulsory Credits…Grade 10/Gra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CF3326-17F3-4941-A8BB-56B7385F8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0E560F-4237-442D-9242-DCADD1858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0B0597-7AE5-4005-8450-C95ED1ADA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5DCFCF-4D8D-4FB8-85C3-523CD1ED5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ing… YOU need to research the options…the pre-requisites.  USE THE PH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Dates to remember…LISTED on the LDH Website.  (Including the October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ents’ N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Numbers will be distributed mid-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rounds of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60% of CONDITIONAL offers are made AFTER mid-term of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m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are open early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ust be submitted around the end of January for Equal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112368-41B6-4BE2-891D-C2B8E5441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Credit Counseling Summ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CAC-5A75-45BE-BA3F-8A45157E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770-F72F-4CB6-8668-DBA0CFDA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417-FB9B-4312-B512-B81FD59E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79B-47FA-4D6F-AA3B-D4629089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2A12-34F3-4773-B7F4-F773DEA7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6A72-1689-4F96-BCE4-4E13DCCA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7E2B-1245-406D-B116-5528DE87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18D9-3D70-4104-9276-FCA3173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8858-4FB5-4B3D-BC93-10472C21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9F6D-DDA8-48DC-9670-CC059AB7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5FF4-4157-40A1-948E-8BEAA6AB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F7D-5F0F-4399-925F-128CDB3B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651E-8D55-4B3D-BC4F-2B0146E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110D-6DA8-4DEA-BFB6-005FCC97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9CD1-6378-40E5-9A47-3A113DB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49A5-D95A-40BB-B743-35080500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DBC2-0FA5-4694-ADA4-83729612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5037-B46D-4AFB-9DBD-360AB114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1D1C-9B61-41BE-BA27-FA714EDC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5124-4AB7-4CF1-929F-5B7AA502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562BD-6B98-4703-A1C0-342B6864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EAD6-8B31-4D50-8520-75F2EB5B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988-23D4-4A2C-81DB-485A4504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46AD-8F0A-4C65-AFE5-5D565A78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74C5-44B6-4AA8-A2C1-45B6C491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CBBB-821F-45CD-8041-AA2555B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3A43-06DB-45C7-BE11-A758CC30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7B41-A3B7-4F4E-BA7C-CBA4CDD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2041-064D-4107-9DAD-F5BC0EF2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1E3B-0BCB-4352-A3B1-4F352E7C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71F-AEC3-48BF-9586-E0D70A16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82B-FF11-4248-965D-855B3E31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A87-D080-4C72-8EE4-5508DED5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1A8-B061-4ADE-A2CB-7718741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771-C132-432B-9591-3C52D226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F64-4A0F-4AEF-95F5-864397D5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4fc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4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4fc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b4fc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4FB3-5DDB-4105-915E-50402EF27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DAE-475E-4DD5-886B-E68A87D8C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a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2DC2-6454-4A60-A681-30A7EBF9C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blogo"/>
          <p:cNvPicPr/>
          <p:nvPr/>
        </p:nvPicPr>
        <p:blipFill>
          <a:blip r:embed="rId1"/>
          <a:stretch/>
        </p:blipFill>
        <p:spPr>
          <a:xfrm>
            <a:off x="2459160" y="3352680"/>
            <a:ext cx="4429080" cy="2381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76440" y="663480"/>
            <a:ext cx="616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Welco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20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oadway"/>
              </a:rPr>
              <a:t>Grad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1105200" y="2192400"/>
            <a:ext cx="65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5492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P YEAR? 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rograms are avail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your guidance counsellor for tips on resumes, cover letters, interview skills, and letters of re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RENTICE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op and apprenticeship programs are a great way to gain experience and make contacts if you are planning to go to work directly after high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footer9"/>
          <p:cNvPicPr/>
          <p:nvPr/>
        </p:nvPicPr>
        <p:blipFill>
          <a:blip r:embed="rId1"/>
          <a:stretch/>
        </p:blipFill>
        <p:spPr>
          <a:xfrm>
            <a:off x="539640" y="5772240"/>
            <a:ext cx="8172720" cy="61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choosing a college, consi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and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within th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of the cam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from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ces and alternative living 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 in a diploma, degr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ollege campus"/>
          <p:cNvPicPr/>
          <p:nvPr/>
        </p:nvPicPr>
        <p:blipFill>
          <a:blip r:embed="rId2"/>
          <a:stretch/>
        </p:blipFill>
        <p:spPr>
          <a:xfrm>
            <a:off x="5186520" y="2392200"/>
            <a:ext cx="3149280" cy="177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Gillet building"/>
          <p:cNvPicPr/>
          <p:nvPr/>
        </p:nvPicPr>
        <p:blipFill>
          <a:blip r:embed="rId3"/>
          <a:stretch/>
        </p:blipFill>
        <p:spPr>
          <a:xfrm>
            <a:off x="501480" y="2968560"/>
            <a:ext cx="4070520" cy="2333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Algonquin"/>
          <p:cNvPicPr/>
          <p:nvPr/>
        </p:nvPicPr>
        <p:blipFill>
          <a:blip r:embed="rId4"/>
          <a:stretch/>
        </p:blipFill>
        <p:spPr>
          <a:xfrm>
            <a:off x="5186520" y="4235400"/>
            <a:ext cx="3149280" cy="172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393920"/>
            <a:ext cx="787896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SD, ENG4C, and others depending on the specific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s, Program tests (Math, Language, HOAE), and/or interviews are required for certa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 degree programs and collaborative programs have university requirements (ex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chelor of Interior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lied degre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Sc. Nur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llaborative pr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ulation agreements with universities – opportunity to continue from college into degre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footer9"/>
          <p:cNvPicPr/>
          <p:nvPr/>
        </p:nvPicPr>
        <p:blipFill>
          <a:blip r:embed="rId1"/>
          <a:stretch/>
        </p:blipFill>
        <p:spPr>
          <a:xfrm>
            <a:off x="501480" y="6002280"/>
            <a:ext cx="819972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1520" y="1585800"/>
            <a:ext cx="683748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 Guidanc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School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@ColBy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Remind App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 Grade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7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2" descr="Remind"/>
          <p:cNvPicPr/>
          <p:nvPr/>
        </p:nvPicPr>
        <p:blipFill>
          <a:blip r:embed="rId2"/>
          <a:stretch/>
        </p:blipFill>
        <p:spPr>
          <a:xfrm>
            <a:off x="5916600" y="3773520"/>
            <a:ext cx="2722680" cy="515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twitter"/>
          <p:cNvPicPr/>
          <p:nvPr/>
        </p:nvPicPr>
        <p:blipFill>
          <a:blip r:embed="rId3"/>
          <a:stretch/>
        </p:blipFill>
        <p:spPr>
          <a:xfrm>
            <a:off x="4648320" y="3429000"/>
            <a:ext cx="4791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2199960"/>
            <a:ext cx="476244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4343400" y="3889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Ontario Colleges"/>
          <p:cNvPicPr/>
          <p:nvPr/>
        </p:nvPicPr>
        <p:blipFill>
          <a:blip r:embed="rId2"/>
          <a:stretch/>
        </p:blipFill>
        <p:spPr>
          <a:xfrm>
            <a:off x="2036880" y="2122560"/>
            <a:ext cx="4570200" cy="1706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512640" y="4389480"/>
            <a:ext cx="765828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the colleg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64120" y="1262160"/>
            <a:ext cx="230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2962440" y="382896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ontariocolleges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098800" y="2316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268640" y="2584440"/>
            <a:ext cx="651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 - Where are you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tell your grade 12 sel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1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through www.ontariocollege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pens in early 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5 application fee for 5 program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8 deadline for equal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18 colleges may begin sending offers of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, 2018 deadline to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57200" y="1600200"/>
            <a:ext cx="787860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fers of admission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al offers of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dmission offers carefully and understand conditions pla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1760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ll Badg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-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.badger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ah Stor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-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.store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hel Nakashoj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-Z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hel.nakashoji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footer9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tudent Services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8229600" cy="37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with your guidance counse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with the college admissions office/regi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69880"/>
            <a:ext cx="822960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le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ntrance admission scholarships, but many internal/external scholarship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18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LARSHIPS &amp; BURS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1880" y="135576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S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el By Student Service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scholarshipscanad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Yconi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 Counsel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61880" y="1585800"/>
            <a:ext cx="787896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77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T-SECONDARY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fees range $5,000-$16,000/year, plus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ce fees $4,800-$15,000 (+/- meal pl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openly discuss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(estimator tool; loans and grant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osap.gov.on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AP Update for 2017/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1880" y="1547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SAP for 2017-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includes: grants, bursaries and scholarship and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AP is a needs-based program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AS will link with OSAP for the firs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hould receive confirmation of their OSAP funding at the same time as they receive conditional offers of admission from colleges and 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SAP PRESENTA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rsday, OCTOBER 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@ LUNCH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I GET THERE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AP Update for 2017/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1880" y="15854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tudents are applying through OCAS they will be presented with a green OSAP banner asking them to set-up their OSAP account to find out how much funding they will be eligible to receive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link their OCAS with OSAP, when the 18/19 OSAP application launches (planned for early November), OSAP will pre-populate applications based on student’s info and program sel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al Education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1880" y="15854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ervices for students with learning exceptionalities will differ from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EP will not be acceptable documentation; current documentation (ex. psycho-educational assessment completed within last 4 years) will b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your prospective schools’ student support services, and book appointments to begin the process once an offer is accep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 Success Suppor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Post-Second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1880" y="15854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year students struggle with meeting deadlines, academic performance, motivation, and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wait until there is a problem to seek support from the college– access “Student Success” services– there are many supports/programs in place to help you adapt and be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footer9"/>
          <p:cNvPicPr/>
          <p:nvPr/>
        </p:nvPicPr>
        <p:blipFill>
          <a:blip r:embed="rId1"/>
          <a:stretch/>
        </p:blipFill>
        <p:spPr>
          <a:xfrm>
            <a:off x="385920" y="5656320"/>
            <a:ext cx="8229600" cy="614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helping climb"/>
          <p:cNvPicPr/>
          <p:nvPr/>
        </p:nvPicPr>
        <p:blipFill>
          <a:blip r:embed="rId2"/>
          <a:stretch/>
        </p:blipFill>
        <p:spPr>
          <a:xfrm>
            <a:off x="5800680" y="4081320"/>
            <a:ext cx="2158920" cy="143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5560" y="1431720"/>
            <a:ext cx="7878600" cy="29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an be a stressful process.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tay cal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ents, please be supportive, informed, and real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udents, please be informed, realistic, and commun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th your par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footer9"/>
          <p:cNvPicPr/>
          <p:nvPr/>
        </p:nvPicPr>
        <p:blipFill>
          <a:blip r:embed="rId1"/>
          <a:stretch/>
        </p:blipFill>
        <p:spPr>
          <a:xfrm>
            <a:off x="309600" y="5925960"/>
            <a:ext cx="8229600" cy="6145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360" y="-1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44175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ll Badg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A-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ll.badger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rah Stor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surnames H-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h.storey@ocdsb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hel Nakashoj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rnames P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.nakashoji@ocdsb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footer9"/>
          <p:cNvPicPr/>
          <p:nvPr/>
        </p:nvPicPr>
        <p:blipFill>
          <a:blip r:embed="rId1"/>
          <a:stretch/>
        </p:blipFill>
        <p:spPr>
          <a:xfrm>
            <a:off x="309600" y="6002280"/>
            <a:ext cx="8410680" cy="5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tudent Services Te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 Services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3720" y="1547640"/>
            <a:ext cx="7878960" cy="29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ARE YOU GO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DO YOU GET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footer9"/>
          <p:cNvPicPr/>
          <p:nvPr/>
        </p:nvPicPr>
        <p:blipFill>
          <a:blip r:embed="rId1"/>
          <a:stretch/>
        </p:blipFill>
        <p:spPr>
          <a:xfrm>
            <a:off x="347760" y="5925960"/>
            <a:ext cx="8486640" cy="6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539640" y="241200"/>
          <a:ext cx="7954920" cy="844560"/>
        </p:xfrm>
        <a:graphic>
          <a:graphicData uri="http://schemas.openxmlformats.org/drawingml/2006/table">
            <a:tbl>
              <a:tblPr/>
              <a:tblGrid>
                <a:gridCol w="795492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ost Secondary Present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b3d5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16"/>
          <p:cNvSpPr/>
          <p:nvPr/>
        </p:nvSpPr>
        <p:spPr>
          <a:xfrm>
            <a:off x="5608800" y="4273560"/>
            <a:ext cx="215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future arrow"/>
          <p:cNvPicPr/>
          <p:nvPr/>
        </p:nvPicPr>
        <p:blipFill>
          <a:blip r:embed="rId2"/>
          <a:stretch/>
        </p:blipFill>
        <p:spPr>
          <a:xfrm>
            <a:off x="6300720" y="1816200"/>
            <a:ext cx="2371680" cy="365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ign up for REM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"/>
          <p:cNvPicPr/>
          <p:nvPr/>
        </p:nvPicPr>
        <p:blipFill>
          <a:blip r:embed="rId1"/>
          <a:stretch/>
        </p:blipFill>
        <p:spPr>
          <a:xfrm>
            <a:off x="1806480" y="933480"/>
            <a:ext cx="5500800" cy="576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849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7760" y="1355400"/>
            <a:ext cx="8486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RADUATION REQUIREMENT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ubmitte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ommunity involvement hou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Due: May 31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,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you passed the Literacy Test (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SSL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) or the Literacy Cou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re you on track to earn your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credits?  (18 compulsory + 12 electiv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view Credit Counselling Summary to verify this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footer9"/>
          <p:cNvPicPr/>
          <p:nvPr/>
        </p:nvPicPr>
        <p:blipFill>
          <a:blip r:embed="rId1"/>
          <a:stretch/>
        </p:blipFill>
        <p:spPr>
          <a:xfrm>
            <a:off x="328680" y="5964120"/>
            <a:ext cx="8199360" cy="6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grad hat"/>
          <p:cNvPicPr/>
          <p:nvPr/>
        </p:nvPicPr>
        <p:blipFill>
          <a:blip r:embed="rId2"/>
          <a:stretch/>
        </p:blipFill>
        <p:spPr>
          <a:xfrm>
            <a:off x="6453360" y="1278000"/>
            <a:ext cx="205236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 Involv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457200" y="2911320"/>
          <a:ext cx="8229600" cy="19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11320"/>
                    <a:ext cx="8229600" cy="19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 / Completed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457200" y="2155680"/>
          <a:ext cx="8229600" cy="34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55680"/>
                    <a:ext cx="82296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914400" y="1828800"/>
          <a:ext cx="693432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69343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914400" y="4340160"/>
            <a:ext cx="6934320" cy="106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3"/>
          <p:cNvGraphicFramePr/>
          <p:nvPr/>
        </p:nvGraphicFramePr>
        <p:xfrm>
          <a:off x="457200" y="2817720"/>
          <a:ext cx="822960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7720"/>
                    <a:ext cx="82296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RE YOU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1623960"/>
            <a:ext cx="7878960" cy="27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lace? Apprenticeshi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? Univers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/travel? Part-time studies/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year to upg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your strengths and interests when making a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some research to decide on op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footer9"/>
          <p:cNvPicPr/>
          <p:nvPr/>
        </p:nvPicPr>
        <p:blipFill>
          <a:blip r:embed="rId1"/>
          <a:stretch/>
        </p:blipFill>
        <p:spPr>
          <a:xfrm>
            <a:off x="501480" y="5964120"/>
            <a:ext cx="8199720" cy="61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road sign"/>
          <p:cNvPicPr/>
          <p:nvPr/>
        </p:nvPicPr>
        <p:blipFill>
          <a:blip r:embed="rId2"/>
          <a:stretch/>
        </p:blipFill>
        <p:spPr>
          <a:xfrm>
            <a:off x="6684840" y="1623960"/>
            <a:ext cx="1758960" cy="1758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23:04:50Z</dcterms:created>
  <dc:creator>HP Authorized Customer</dc:creator>
  <dc:description/>
  <dc:language>en-US</dc:language>
  <cp:lastModifiedBy>Jill Badgery</cp:lastModifiedBy>
  <dcterms:modified xsi:type="dcterms:W3CDTF">2017-10-18T14:07:32Z</dcterms:modified>
  <cp:revision>197</cp:revision>
  <dc:subject/>
  <dc:title>Slide 1</dc:title>
</cp:coreProperties>
</file>